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EDB8-E7D0-460F-8C30-F563A2EE9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5645-6436-4CA4-B8ED-887F718D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AF65-CD0A-40DF-8D01-A9100C7A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8680-F224-4212-8838-594F1DCFE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8B31-FB20-4911-B322-13178CFC5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0A04-9370-4653-9C2E-45E8E328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7FEA-FA78-42A8-9205-C2AB8D29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CEAF-1AF0-400E-9F36-BD7D1A8D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909A-D9F7-49D1-89D2-B5A2F980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ACEC-57B6-421D-BF7C-15C2BC48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796E-EDF0-478D-BF7C-CE32260D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BBA9-2F4A-454F-90B9-4E93597D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AD87-B1EA-4668-B74F-9D8D4B00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861C-3AD8-43FF-AD20-81D03850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07B0-8D41-4842-853D-2EEBD803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2ED3-3575-477E-9E52-814225B5C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DFE9-A181-42DD-B26A-E8C281C3D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A9927-01AE-44EF-A235-486D848B7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6E3EA-4E64-4C43-A6A4-AB3F36DF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84FB3-BDA0-46B5-8AD6-3D791156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450CE-CF5B-4543-AE36-A28B293D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11FB4-E129-462E-B71C-67874430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4E79-248F-4E56-878C-A4FBA788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0E40A-DD9E-48DC-9F7E-053AAEA8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9A3EE-6E5B-4AF2-8EE7-86471474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5D740-5D80-412B-8D7D-12ED221D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41FCC-3804-4B9B-B648-6D684524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FD797-6331-4D68-80B3-ADFD795F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7F16F-EACA-47D7-85AE-B4CA004A3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011E4-C95A-4F8B-8E72-15B1B7F87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94246-C940-4E4A-8C98-5075F579D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B3B9D-254F-45A5-860C-C6FFF855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9601D-A37A-4D21-AA9C-68E3570C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210C-150F-47F6-9300-58BC0D0B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16D4E-1EF4-4C1C-8FBB-F9B65322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3F08E-3AE1-403D-BEA4-061C8DEB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7B8E8-4F02-45D0-BD9C-A17AB5FD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E5D66-E9FD-44E8-84D8-8EDD2CEA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5ABAB-6051-45B2-8BA8-110A67C2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D6512-C221-495B-82F2-F451EE2F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C462C-EDE5-4688-ADD9-998D29EB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BDA83-0B95-4E00-86C3-C2CECFDA5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E957B-F0E0-4E38-8B86-81CD5544C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95DB6-3820-4C33-8728-1BBB80A92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6D1E-8F4A-4BD4-BFFB-E96FE873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AB27B-3DFE-41B8-96E8-7925438A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6C960-AD30-47E3-AB81-7FF83054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F6A87-8C14-442E-AC83-5222D40E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A7FE2-F3B8-40F5-9779-DE855185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F90E5-B29F-447E-B267-014AE20B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57874-47E3-4620-B1F2-B275ED2D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7E80E-5D9A-4379-A0BA-8D71B987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D4B3C-304E-4CF1-BBCB-E6148BF6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E20CC-5B06-4ECF-8F1C-3F8C74ED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F1C60-B4C5-439D-BE78-F967C4C81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7000-4C08-4157-887F-C934BD73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53AF5-385C-4E45-AEF6-65C4E426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6C5D5-07DF-4012-94E6-1C90357EB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6E7A1-EADF-4793-BEB1-3B96182F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BA044-9AFB-4479-BE4E-81FBFC4F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D10F0-2E33-4FD4-A5FC-62684BB5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8EAFB-9171-4257-964D-A3B05B0A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3C67C-C67A-406D-A41D-C5E195A3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2BB69-3C51-4453-AF32-57C7A63C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A43B4-FE11-4531-963C-B197E6A5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1BA4E-7397-4DF6-A5BF-EE30DDB7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D3FE-6640-4D1F-8002-88ED3D5C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8EC6A-8173-4214-8F3E-DED59ED1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86515-6804-4BE1-89E8-534E9AC6E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49C1C-BEE4-460F-9DBD-829F5BA40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C2A1E-1F04-4F2D-BE38-D07A8889A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780EF-8E91-49CD-B1EC-EF7FE035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9332D-0418-4A2D-B97E-7AE0E778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A95C2-31B8-485B-A209-FB569D56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2ED85-9EF5-4FFE-89C3-75A2A54A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7EFDC-B010-41C8-95F7-80237B79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277A7-BDFE-4033-B9F6-928A13CB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A4A1-1E72-4995-87AA-1CAD879A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E69A1-B80D-4334-808D-26C579B7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763F7-8F5F-4684-964C-535E8C1C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2AB46-D6DF-4E88-981B-5FD7E80E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A2BC5-7774-4BF2-B82E-F7EFA60D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DE694-88C9-4C89-B28A-467952C27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09402-3E2C-40CF-ADD7-E2B9D58F5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F63CE-FFE9-44EC-8AAF-EA990997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C1186-1C84-4E5E-BCEE-E78E3421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8A423-71BF-47C2-B0BD-9A0883A4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31F85-A0C6-41B7-904E-35521D01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9A65-7FDE-4D2F-BBBD-2F66DABA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84DA6-352D-458E-8D20-53165E7C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F5260-41D3-4900-B6D5-72752D52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13653-6DE5-4646-A028-5743BB02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9E333-4E64-4F98-B928-E47CF241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38B25-4993-4B02-BC99-4D83555C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E95A6-F27B-40B5-8779-C215FEDE4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1CD7E-CA97-44B5-B510-6DBB4A6B8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81E2-5C51-4E81-AE49-EF7137733F7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225E-B606-4A71-8DE5-21B39030594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9AC0-96F7-4DBB-A75C-E2075F1A8F9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2EE1-4F6B-477E-8DEC-D6D7C9D4157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A1B4-62C3-4664-B944-4B72F2F3D7C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0541-3FC9-4D9E-BAD7-ADB8679F281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83D9-A456-407E-9919-62FA30E0526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1D4D-FEF6-48F6-9B89-E6861D734BA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69960" y="1749600"/>
            <a:ext cx="81025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762120" y="304920"/>
            <a:ext cx="195264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457200"/>
            <a:ext cx="82296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ach band represents a strand of DNA, of a specific leng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bands furthest down are the smalle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ls are normally run to compare a sample of DNA to a known sample, cut with the same enzym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the bands line up, it is likely that the samples are the sa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is very useful in DNA fingerprinting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ter discovering DNA was the carrier of genetic info, it became apparent that control over its mechanisms would be essenti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have ways of isolating DNA, determining the order of its nucleotides, and can even insert of piece of DNA from one organism to anoth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get at DNA, we have to remove the two membranes that protect 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ell membrane and nuclear envelop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are made of phospholipid bilay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tergents are used to dissolve the lipids to expose the genetic materi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xt, a protease is used to dissolve unwanted protei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dium acetate further precipitates the remaining prote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xt, the sample is centrifuged, and the protein can be remov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NA can be precipitated by the addition of cold ethano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is both precipitates the DNA and washes the sal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nally, the solution is centrifuged, and the pellet of DNA is remov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2666880" y="3502080"/>
            <a:ext cx="388620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DNA extracted is often very lo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oo long to be useful in many cas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striction enzymes are used to cut the D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ever, it is not a random cut site, rather a very specific seque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re are many different enzymes (~1000), many with their own unique sequence they attach t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y do not cleave the DNA straight down, instead the cut the bond between adjacent nucleotid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343080" y="380880"/>
            <a:ext cx="880092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uneven cutting creates what is known as “sticky ends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y are “sticky” because they are single strand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NA is normally doubled stranded, and naturally anneals (reforms hydrogen bonds) into doubl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re is a random number of cut sites on every strand of D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t, in the end, the sample is cut into smaller pie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smaller segments can be run through a g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gel is a semi-solid, porous medium that DNA can move throug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lectrodes are set at either end to make one positive, the other negati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NA is slightly negative, and will be attracted to the positive e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maller samples can move through the gel faster, and will make it farther dow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409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20:58:18Z</dcterms:created>
  <dc:creator>ED18</dc:creator>
  <dc:description/>
  <dc:language>en-US</dc:language>
  <cp:lastModifiedBy>ED18</cp:lastModifiedBy>
  <dcterms:modified xsi:type="dcterms:W3CDTF">2012-03-20T17:09:55Z</dcterms:modified>
  <cp:revision>4</cp:revision>
  <dc:subject/>
  <dc:title>Genetic Engineering</dc:title>
</cp:coreProperties>
</file>